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0E7-3099-41A6-A65A-30797A8A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440"/>
            <a:ext cx="6172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F2F-F9C9-4D7A-8A67-30AD4696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56D-3D15-4862-A502-B82F86EB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44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44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44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8FF-7940-4589-AA31-7CC82E6C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055-462E-489A-926C-88FEA4BE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34D-E0AD-476C-9EEE-0359C7A3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B78-8958-4AC2-ABEF-BC55ED6B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34C-F044-4547-A91A-77F699C5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D55-9A6F-41A2-9E1B-D3D4ADD5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D0A-0DBD-4006-86C8-9A29CD27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7CB-CBCA-4DBB-B259-E7EE4C28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440"/>
            <a:ext cx="6172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DDB-62A0-4C18-9C2E-95AEEB4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560"/>
            <a:ext cx="617220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5A80-2D53-42A6-BE4F-9B7A648EB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71680" y="1310400"/>
            <a:ext cx="592920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a99c4">
                  <a:alpha val="5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ABILITARE SISTEM RUTIER STRADA  OCTAV BANCI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7"/>
          <p:cNvSpPr/>
          <p:nvPr/>
        </p:nvSpPr>
        <p:spPr>
          <a:xfrm>
            <a:off x="571680" y="531000"/>
            <a:ext cx="591012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a99c4">
                  <a:alpha val="5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eficiar:     PRIMARIA SECTORULUI  6, BUCURE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1"/>
          <p:cNvSpPr/>
          <p:nvPr/>
        </p:nvSpPr>
        <p:spPr>
          <a:xfrm>
            <a:off x="1000080" y="1926720"/>
            <a:ext cx="5472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TUDIU DE FEZABILIT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4"/>
          <p:cNvSpPr/>
          <p:nvPr/>
        </p:nvSpPr>
        <p:spPr>
          <a:xfrm>
            <a:off x="2565360" y="200160"/>
            <a:ext cx="40323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5"/>
          <p:cNvSpPr/>
          <p:nvPr/>
        </p:nvSpPr>
        <p:spPr>
          <a:xfrm>
            <a:off x="549360" y="130320"/>
            <a:ext cx="619272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6"/>
          <p:cNvSpPr/>
          <p:nvPr/>
        </p:nvSpPr>
        <p:spPr>
          <a:xfrm flipV="1">
            <a:off x="6669000" y="199800"/>
            <a:ext cx="0" cy="863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7"/>
          <p:cNvSpPr/>
          <p:nvPr/>
        </p:nvSpPr>
        <p:spPr>
          <a:xfrm flipV="1">
            <a:off x="6742080" y="200160"/>
            <a:ext cx="0" cy="129672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8"/>
          <p:cNvSpPr/>
          <p:nvPr/>
        </p:nvSpPr>
        <p:spPr>
          <a:xfrm>
            <a:off x="260280" y="9775800"/>
            <a:ext cx="38894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9"/>
          <p:cNvSpPr/>
          <p:nvPr/>
        </p:nvSpPr>
        <p:spPr>
          <a:xfrm>
            <a:off x="1557360" y="9705960"/>
            <a:ext cx="475308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0"/>
          <p:cNvSpPr/>
          <p:nvPr/>
        </p:nvSpPr>
        <p:spPr>
          <a:xfrm>
            <a:off x="260280" y="7257960"/>
            <a:ext cx="0" cy="25178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1"/>
          <p:cNvSpPr/>
          <p:nvPr/>
        </p:nvSpPr>
        <p:spPr>
          <a:xfrm flipV="1">
            <a:off x="189000" y="6536880"/>
            <a:ext cx="0" cy="2808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6719760" y="0"/>
            <a:ext cx="138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1"/>
          <p:cNvSpPr/>
          <p:nvPr/>
        </p:nvSpPr>
        <p:spPr>
          <a:xfrm>
            <a:off x="857160" y="2526120"/>
            <a:ext cx="547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VOLUM UNIC </a:t>
            </a:r>
            <a:br>
              <a:rPr sz="1300"/>
            </a:b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– PIESE SCRISE SI PIESE DESENATE 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214880" y="9024840"/>
            <a:ext cx="2143080" cy="289800"/>
          </a:xfrm>
          <a:prstGeom prst="rect">
            <a:avLst/>
          </a:prstGeom>
          <a:solidFill>
            <a:srgbClr val="6a99c4">
              <a:alpha val="67000"/>
            </a:srgbClr>
          </a:solidFill>
          <a:ln w="3240">
            <a:solidFill>
              <a:srgbClr val="6a9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Octombrie 2013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642960" y="7882920"/>
            <a:ext cx="5626080" cy="28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a99c4">
                  <a:alpha val="5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iectant General:   S.C. TOTAL ROAD S.R.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rcRect l="22448" t="35399" r="43129" b="36667"/>
          <a:stretch/>
        </p:blipFill>
        <p:spPr>
          <a:xfrm>
            <a:off x="285840" y="8667720"/>
            <a:ext cx="857160" cy="4287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3"/>
          <p:cNvSpPr/>
          <p:nvPr/>
        </p:nvSpPr>
        <p:spPr>
          <a:xfrm>
            <a:off x="1071720" y="8381880"/>
            <a:ext cx="6161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S.C. TOTAL ROAD S.R.L.</a:t>
            </a:r>
            <a:r>
              <a:rPr b="0" lang="ro-RO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Bucuresti, Str. Nucsoara, nr. 1,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bl. 13, sc.3, ap. 115, sector 6.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Telefon,Fax                   </a:t>
            </a:r>
            <a:r>
              <a:rPr b="0" i="1" lang="ro-RO" sz="700" spc="-1" strike="noStrike">
                <a:solidFill>
                  <a:srgbClr val="000000"/>
                </a:solidFill>
                <a:latin typeface="Arial"/>
              </a:rPr>
              <a:t>: 0724.715.501/</a:t>
            </a:r>
            <a:r>
              <a:rPr b="0" lang="ro-RO" sz="700" spc="-1" strike="noStrike">
                <a:solidFill>
                  <a:srgbClr val="000000"/>
                </a:solidFill>
                <a:latin typeface="Arial"/>
              </a:rPr>
              <a:t>031/424.52.66</a:t>
            </a:r>
            <a:r>
              <a:rPr b="0" i="1" lang="ro-RO" sz="7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E-mail                            : office@totalroad.r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Registrul Comertului    : J40/15081/200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Cod unic de inregistrare: 179186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Cont deschis la BCR sucursala Tunari: RO77 RNCB02860011619200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Stema.jpg"/>
          <p:cNvPicPr/>
          <p:nvPr/>
        </p:nvPicPr>
        <p:blipFill>
          <a:blip r:embed="rId2"/>
          <a:stretch/>
        </p:blipFill>
        <p:spPr>
          <a:xfrm>
            <a:off x="571680" y="237960"/>
            <a:ext cx="58896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11.jpg"/>
          <p:cNvPicPr/>
          <p:nvPr/>
        </p:nvPicPr>
        <p:blipFill>
          <a:blip r:embed="rId3"/>
          <a:stretch/>
        </p:blipFill>
        <p:spPr>
          <a:xfrm>
            <a:off x="542880" y="3870360"/>
            <a:ext cx="1298520" cy="291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22.jpg"/>
          <p:cNvPicPr/>
          <p:nvPr/>
        </p:nvPicPr>
        <p:blipFill>
          <a:blip r:embed="rId4"/>
          <a:stretch/>
        </p:blipFill>
        <p:spPr>
          <a:xfrm>
            <a:off x="1762200" y="3517920"/>
            <a:ext cx="1584360" cy="3552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33.jpg"/>
          <p:cNvPicPr/>
          <p:nvPr/>
        </p:nvPicPr>
        <p:blipFill>
          <a:blip r:embed="rId5"/>
          <a:stretch/>
        </p:blipFill>
        <p:spPr>
          <a:xfrm>
            <a:off x="3260880" y="3230640"/>
            <a:ext cx="1939680" cy="4309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4" descr="44.jpg"/>
          <p:cNvPicPr/>
          <p:nvPr/>
        </p:nvPicPr>
        <p:blipFill>
          <a:blip r:embed="rId6"/>
          <a:stretch/>
        </p:blipFill>
        <p:spPr>
          <a:xfrm>
            <a:off x="5114880" y="3517920"/>
            <a:ext cx="145116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1:15:32Z</dcterms:created>
  <dc:creator>Mihnea Crihan</dc:creator>
  <dc:description/>
  <dc:language>en-US</dc:language>
  <cp:lastModifiedBy>SorinPC</cp:lastModifiedBy>
  <dcterms:modified xsi:type="dcterms:W3CDTF">2013-11-25T18:11:06Z</dcterms:modified>
  <cp:revision>121</cp:revision>
  <dc:subject/>
  <dc:title>Slide 1</dc:title>
</cp:coreProperties>
</file>